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EE7-401A-4897-8CE0-D3645A9E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706-D20E-4CE8-A702-29824876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DE4-9416-4327-9C46-C4E7ABA3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07F-777E-47CF-BF69-805F93AE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06A-1515-4BAC-9CE6-F4AAD8B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E9F-DFE3-405E-A5C9-3866B45A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A92-437C-460B-9D2E-CD8310D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6CF-EB1C-4229-A079-AF2555F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927-49D3-4454-898E-3210737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090-BF49-4B98-8380-7FA996D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C50-5E49-4FB2-9FFA-023C20C5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E44-33E4-45A9-BC96-EC32F40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80E-73FB-4872-A76F-35408248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unctions of choleste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hormones such as estrogen and testosterone; important part of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excess cholesterol cau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bine with other fats to form plaques that block 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logy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 27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name the functional groups in the molecule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sidic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1-09-15T17:56:43Z</dcterms:modified>
  <cp:revision>27</cp:revision>
  <dc:subject/>
  <dc:title>Carbohydrate Review</dc:title>
</cp:coreProperties>
</file>